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8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5.jpeg" ContentType="image/jpeg"/>
  <Override PartName="/ppt/media/image10.png" ContentType="image/png"/>
  <Override PartName="/ppt/media/image3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3.png" ContentType="image/png"/>
  <Override PartName="/ppt/media/image39.png" ContentType="image/png"/>
  <Override PartName="/ppt/media/image7.jpeg" ContentType="image/jpeg"/>
  <Override PartName="/ppt/media/image38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3.png" ContentType="image/png"/>
  <Override PartName="/ppt/media/image17.jpeg" ContentType="image/jpeg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7045-C823-4785-B73F-9377469E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DD2D-4C03-4E0D-91AD-73105EB5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83C-D12F-40D2-8566-BF6EC64F2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34D9-E752-4E3D-9B6A-5C605F8E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8C6-7579-4A17-B064-64A70C6E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5D1-CFC3-476B-ADED-5A4127F7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0F0E-D188-40C3-90FB-98298EB2C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B79D-EF56-40BF-9906-ADEFD482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0FDC-FFC9-462C-BF5C-2B0BEF9C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1B45-D084-4478-8B40-C1C506DB8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5A6-E1F5-42AE-9624-3B719A3F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01D0-6156-4690-8D11-7B91CFE7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0196-E975-4AAB-8C5A-6D8B151602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Объект 3" descr=""/>
          <p:cNvPicPr/>
          <p:nvPr/>
        </p:nvPicPr>
        <p:blipFill>
          <a:blip r:embed="rId1"/>
          <a:stretch/>
        </p:blipFill>
        <p:spPr>
          <a:xfrm>
            <a:off x="762120" y="533520"/>
            <a:ext cx="777240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8"/>
          <p:cNvPicPr/>
          <p:nvPr/>
        </p:nvPicPr>
        <p:blipFill>
          <a:blip r:embed="rId1"/>
          <a:srcRect l="0" t="24285" r="47152" b="0"/>
          <a:stretch/>
        </p:blipFill>
        <p:spPr>
          <a:xfrm>
            <a:off x="228600" y="1981080"/>
            <a:ext cx="4267080" cy="30895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914400" y="57913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У кишечнополостных два типа пищеварения – внутриклеточное и внеклеточно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Содержимое 4" descr="image004.jpg"/>
          <p:cNvPicPr/>
          <p:nvPr/>
        </p:nvPicPr>
        <p:blipFill>
          <a:blip r:embed="rId2"/>
          <a:stretch/>
        </p:blipFill>
        <p:spPr>
          <a:xfrm>
            <a:off x="3809880" y="0"/>
            <a:ext cx="5054760" cy="53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6"/>
          <p:cNvSpPr/>
          <p:nvPr/>
        </p:nvSpPr>
        <p:spPr>
          <a:xfrm>
            <a:off x="304920" y="6094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Рефлекс 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– ответная реакция организма на раздра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http://biouroki.ru/content/page/724/11.png"/>
          <p:cNvPicPr/>
          <p:nvPr/>
        </p:nvPicPr>
        <p:blipFill>
          <a:blip r:embed="rId1"/>
          <a:stretch/>
        </p:blipFill>
        <p:spPr>
          <a:xfrm>
            <a:off x="228600" y="2448000"/>
            <a:ext cx="8534520" cy="35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Какие способы размножения характерны для гидр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0005-005-Razmnozhenie-gidry"/>
          <p:cNvPicPr/>
          <p:nvPr/>
        </p:nvPicPr>
        <p:blipFill>
          <a:blip r:embed="rId1"/>
          <a:stretch/>
        </p:blipFill>
        <p:spPr>
          <a:xfrm>
            <a:off x="533520" y="91440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56296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Классификация Кишечнополост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Содержимое 4" descr=""/>
          <p:cNvPicPr/>
          <p:nvPr/>
        </p:nvPicPr>
        <p:blipFill>
          <a:blip r:embed="rId1"/>
          <a:stretch/>
        </p:blipFill>
        <p:spPr>
          <a:xfrm>
            <a:off x="158760" y="1646280"/>
            <a:ext cx="8534520" cy="44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11548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ласс Гидроид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28400" y="5285880"/>
            <a:ext cx="835812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 нему относятся мелкие полипы, напоминающие водные растения, имеющие щупальца (пресноводная гидр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358040" cy="452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5804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Класс Сцифоид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5500800"/>
            <a:ext cx="832968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Свободноплавающие меду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857160" y="928800"/>
            <a:ext cx="74296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1548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Цианея поляр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214280" y="107172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a-12-7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Цианея капилат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самая крупная медуза. Найден экземпляр с диаметром колокола 2,28м, а щупальца – 36,5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13-84"/>
          <p:cNvPicPr/>
          <p:nvPr/>
        </p:nvPicPr>
        <p:blipFill>
          <a:blip r:embed="rId1"/>
          <a:stretch/>
        </p:blipFill>
        <p:spPr>
          <a:xfrm>
            <a:off x="838080" y="2057400"/>
            <a:ext cx="693432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008160" cy="179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урелия ушастая меду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4" descr="аурелия ушастая медуза.jpg"/>
          <p:cNvPicPr/>
          <p:nvPr/>
        </p:nvPicPr>
        <p:blipFill>
          <a:blip r:embed="rId1"/>
          <a:stretch/>
        </p:blipFill>
        <p:spPr>
          <a:xfrm>
            <a:off x="4071960" y="357120"/>
            <a:ext cx="4405320" cy="592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медуза2"/>
          <p:cNvPicPr/>
          <p:nvPr/>
        </p:nvPicPr>
        <p:blipFill>
          <a:blip r:embed="rId1"/>
          <a:stretch/>
        </p:blipFill>
        <p:spPr>
          <a:xfrm>
            <a:off x="152280" y="212760"/>
            <a:ext cx="8839440" cy="6645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ип Кишечнополос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59092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рок биологии в 7 кла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: Амагова З.М-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2614680" cy="187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Медуза корнеро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786120" y="357120"/>
            <a:ext cx="4929120" cy="595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13880"/>
            <a:ext cx="3008160" cy="2786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Медуза морская оса- самая ядовитая меду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643200" y="642960"/>
            <a:ext cx="4921200" cy="5214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1338398208_osa"/>
          <p:cNvPicPr/>
          <p:nvPr/>
        </p:nvPicPr>
        <p:blipFill>
          <a:blip r:embed="rId2"/>
          <a:stretch/>
        </p:blipFill>
        <p:spPr>
          <a:xfrm>
            <a:off x="152280" y="401760"/>
            <a:ext cx="8607600" cy="645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4267080"/>
            <a:ext cx="3886200" cy="229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Физалия или португальский корабли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Тело» физалии достигает в среднем 30 см, а вот щупальца могут быть разного размера. У кого-то они до 20 см, а вот у тихоокеанской физалии одно из щупалец, так называемый, арканчик, длиннее, чем все остальные, и может достигать 13 и более метров в длину!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4476" t="2873" r="2984" b="1915"/>
          <a:stretch/>
        </p:blipFill>
        <p:spPr>
          <a:xfrm>
            <a:off x="4286160" y="357120"/>
            <a:ext cx="3857760" cy="6183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meduza6"/>
          <p:cNvPicPr/>
          <p:nvPr/>
        </p:nvPicPr>
        <p:blipFill>
          <a:blip r:embed="rId2"/>
          <a:stretch/>
        </p:blipFill>
        <p:spPr>
          <a:xfrm>
            <a:off x="0" y="152280"/>
            <a:ext cx="8991720" cy="65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-381240"/>
            <a:ext cx="825804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Класс Коралловые поли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495320" y="914040"/>
            <a:ext cx="449604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Коралловые полипы (Anthozoa) – колониальные (реже одиночные) морские организмы. Тело длиной от нескольких миллиметров до одного метра. Могут иметь известковый скелет, могут быть без скелета.  У полипов одной колонии кишечная полость общая, и пища, добытая одним из полипов, становится достоянием всей коло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rcRect l="3335" t="21838" r="5558" b="0"/>
          <a:stretch/>
        </p:blipFill>
        <p:spPr>
          <a:xfrm>
            <a:off x="228600" y="1066680"/>
            <a:ext cx="4152960" cy="47149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457200" y="6019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АКТ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186760" cy="6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ралловые поли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571680" y="1071720"/>
            <a:ext cx="8126280" cy="50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SN1potp3IRw"/>
          <p:cNvPicPr/>
          <p:nvPr/>
        </p:nvPicPr>
        <p:blipFill>
          <a:blip r:embed="rId1"/>
          <a:stretch/>
        </p:blipFill>
        <p:spPr>
          <a:xfrm>
            <a:off x="155520" y="46080"/>
            <a:ext cx="8759880" cy="6570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68887321_000000"/>
          <p:cNvPicPr/>
          <p:nvPr/>
        </p:nvPicPr>
        <p:blipFill>
          <a:blip r:embed="rId2"/>
          <a:stretch/>
        </p:blipFill>
        <p:spPr>
          <a:xfrm>
            <a:off x="152280" y="0"/>
            <a:ext cx="8763120" cy="66009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73357048_B44A2A59BE2C20B927249D847459C"/>
          <p:cNvPicPr/>
          <p:nvPr/>
        </p:nvPicPr>
        <p:blipFill>
          <a:blip r:embed="rId3"/>
          <a:stretch/>
        </p:blipFill>
        <p:spPr>
          <a:xfrm>
            <a:off x="152280" y="0"/>
            <a:ext cx="8839440" cy="660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О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Выберите три верных утверждения. В эктодерме гидры расположены 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нервн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ищеварительн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мускульн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стрекательн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выделительн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кос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ния ОГ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берите три верных утверждения. Гидра способна осуществ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захват добыч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перемещение в пространств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) кровообращени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) фотосинтез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) размножение почкованием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) хемосинте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Выберите правильные утверж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Среди кишечнополостных животных есть представители с лучевой и двусторонней симметрией те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Все кишечнополостные имеют стрекательные кле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Все кишечнополостные – пресноводные животные.</a:t>
            </a:r>
            <a:br>
              <a:rPr sz="2800"/>
            </a:b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Наружный слой тела кишечнополостных образован кожно-мускульными, стрекательными, нервными и промежуточными клет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Передвижение гидры происходит благодаря сокращению стрекательных нит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Все кишечнополостные – хищн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У кишечнополостных два типа пищеварения – внутриклеточное и внеклеточ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00"/>
                </a:solidFill>
                <a:latin typeface="Arial"/>
              </a:rPr>
              <a:t>Гидры не способны реагировать на раздраж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ktp"/>
          <p:cNvPicPr/>
          <p:nvPr/>
        </p:nvPicPr>
        <p:blipFill>
          <a:blip r:embed="rId1"/>
          <a:stretch/>
        </p:blipFill>
        <p:spPr>
          <a:xfrm>
            <a:off x="1971720" y="304920"/>
            <a:ext cx="5200560" cy="31240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533520" y="3886200"/>
            <a:ext cx="8229600" cy="33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Домашнее зада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1</a:t>
            </a: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параграф 7, ответить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Собрать материал о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  <a:ea typeface="Arial"/>
              </a:rPr>
              <a:t>Кишечнополостных ,  их разнообразии и роли в природе и жизни человека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оформить информацию в  виде  презентации. (Класс Гидроидные, Сцифоидные, Коралл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ru-RU" sz="3600" spc="-1" strike="noStrike">
                <a:solidFill>
                  <a:srgbClr val="990000"/>
                </a:solidFill>
                <a:latin typeface="Arial"/>
              </a:rPr>
              <a:t>Цель урока:</a:t>
            </a:r>
            <a:r>
              <a:rPr b="0" i="1" lang="ru-RU" sz="3600" spc="-1" strike="noStrike">
                <a:solidFill>
                  <a:srgbClr val="003300"/>
                </a:solidFill>
                <a:latin typeface="Arial"/>
              </a:rPr>
              <a:t> раскрыть многообразие кишечнополостных, особенности их строения и образа жизни, связь со средой обитания, значение в природе и жизни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edusa2-tra"/>
          <p:cNvPicPr/>
          <p:nvPr/>
        </p:nvPicPr>
        <p:blipFill>
          <a:blip r:embed="rId1"/>
          <a:stretch/>
        </p:blipFill>
        <p:spPr>
          <a:xfrm>
            <a:off x="5257800" y="3200400"/>
            <a:ext cx="3619440" cy="34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Представит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Anemone"/>
          <p:cNvPicPr/>
          <p:nvPr/>
        </p:nvPicPr>
        <p:blipFill>
          <a:blip r:embed="rId1"/>
          <a:stretch/>
        </p:blipFill>
        <p:spPr>
          <a:xfrm>
            <a:off x="380880" y="809640"/>
            <a:ext cx="8382240" cy="5715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73792270"/>
          <p:cNvPicPr/>
          <p:nvPr/>
        </p:nvPicPr>
        <p:blipFill>
          <a:blip r:embed="rId2"/>
          <a:stretch/>
        </p:blipFill>
        <p:spPr>
          <a:xfrm>
            <a:off x="380880" y="811080"/>
            <a:ext cx="8382240" cy="5713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32af1de6afdcdcc60d3e01c59d7607ac_full"/>
          <p:cNvPicPr/>
          <p:nvPr/>
        </p:nvPicPr>
        <p:blipFill>
          <a:blip r:embed="rId3"/>
          <a:stretch/>
        </p:blipFill>
        <p:spPr>
          <a:xfrm>
            <a:off x="380880" y="838080"/>
            <a:ext cx="8382240" cy="568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7d71deb9449ed4f9beb32b6bfab_prev"/>
          <p:cNvPicPr/>
          <p:nvPr/>
        </p:nvPicPr>
        <p:blipFill>
          <a:blip r:embed="rId4"/>
          <a:stretch/>
        </p:blipFill>
        <p:spPr>
          <a:xfrm>
            <a:off x="380880" y="820800"/>
            <a:ext cx="8382240" cy="570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f_0016"/>
          <p:cNvPicPr/>
          <p:nvPr/>
        </p:nvPicPr>
        <p:blipFill>
          <a:blip r:embed="rId5"/>
          <a:stretch/>
        </p:blipFill>
        <p:spPr>
          <a:xfrm>
            <a:off x="380880" y="835200"/>
            <a:ext cx="8382240" cy="5689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5" descr="564px-Brain_coral"/>
          <p:cNvPicPr/>
          <p:nvPr/>
        </p:nvPicPr>
        <p:blipFill>
          <a:blip r:embed="rId6"/>
          <a:stretch/>
        </p:blipFill>
        <p:spPr>
          <a:xfrm>
            <a:off x="1066680" y="838080"/>
            <a:ext cx="6400800" cy="568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2523960" y="228600"/>
            <a:ext cx="6086520" cy="11912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помощью учебника стр.36 составьте общую характеристику типа Кишечнополос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52280" y="1905120"/>
            <a:ext cx="48006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бщая характерист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Многоклеточные животные с лучевой симмет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Тело состоит из двух слоев кле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Есть дифференциация 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Есть кишечная полость с отверстием – р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Хищ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&amp;Kcy;&amp;lcy;&amp;icy;&amp;pcy;&amp;acy;&amp;rcy;&amp;tcy; - &amp;kcy;&amp;ncy;&amp;icy;&amp;gcy;&amp;icy; &amp;icy; &amp;tcy;&amp;iecy;&amp;tcy;&amp;rcy;&amp;acy;&amp;dcy;&amp;icy;. &amp;Pcy;&amp;rcy;&amp;ocy;&amp;scy;&amp;mcy;&amp;ocy;&amp;tcy;&amp;rcy;&amp;ocy;&amp;vcy;"/>
          <p:cNvPicPr/>
          <p:nvPr/>
        </p:nvPicPr>
        <p:blipFill>
          <a:blip r:embed="rId1"/>
          <a:srcRect l="0" t="0" r="0" b="6354"/>
          <a:stretch/>
        </p:blipFill>
        <p:spPr>
          <a:xfrm>
            <a:off x="152280" y="0"/>
            <a:ext cx="2371680" cy="1920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medusa"/>
          <p:cNvPicPr/>
          <p:nvPr/>
        </p:nvPicPr>
        <p:blipFill>
          <a:blip r:embed="rId2"/>
          <a:stretch/>
        </p:blipFill>
        <p:spPr>
          <a:xfrm>
            <a:off x="4724280" y="2209680"/>
            <a:ext cx="3962520" cy="3171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&amp;Scy;&amp;icy;&amp;mcy;&amp;mcy;&amp;iecy;&amp;tcy;&amp;rcy;&amp;icy;&amp;yacy; &amp;zhcy;&amp;icy;&amp;vcy;&amp;ocy;&amp;tcy;&amp;ncy;&amp;ycy;&amp;khcy;"/>
          <p:cNvPicPr/>
          <p:nvPr/>
        </p:nvPicPr>
        <p:blipFill>
          <a:blip r:embed="rId3"/>
          <a:srcRect l="0" t="0" r="0" b="8071"/>
          <a:stretch/>
        </p:blipFill>
        <p:spPr>
          <a:xfrm>
            <a:off x="5486400" y="1459080"/>
            <a:ext cx="2362320" cy="53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320" y="272520"/>
            <a:ext cx="800100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Пресноводная ги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5562720"/>
            <a:ext cx="842976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Типичным представителем Кишечнополостных  является пресноводная гидра, частый обитатель прудов и озё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hydra3lg"/>
          <p:cNvPicPr/>
          <p:nvPr/>
        </p:nvPicPr>
        <p:blipFill>
          <a:blip r:embed="rId1"/>
          <a:stretch/>
        </p:blipFill>
        <p:spPr>
          <a:xfrm>
            <a:off x="1447920" y="457200"/>
            <a:ext cx="708660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img07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010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2057400" y="380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Arial"/>
              </a:rPr>
              <a:t>Передвижение гид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25804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Строение гидры (в разрез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63440" y="1249200"/>
            <a:ext cx="6923160" cy="538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31"/>
          <p:cNvPicPr/>
          <p:nvPr/>
        </p:nvPicPr>
        <p:blipFill>
          <a:blip r:embed="rId2"/>
          <a:stretch/>
        </p:blipFill>
        <p:spPr>
          <a:xfrm>
            <a:off x="5565600" y="841320"/>
            <a:ext cx="3187800" cy="24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19"/>
          <p:cNvPicPr/>
          <p:nvPr/>
        </p:nvPicPr>
        <p:blipFill>
          <a:blip r:embed="rId1"/>
          <a:srcRect l="0" t="13106" r="4396" b="8772"/>
          <a:stretch/>
        </p:blipFill>
        <p:spPr>
          <a:xfrm>
            <a:off x="228600" y="1019160"/>
            <a:ext cx="8610480" cy="58388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0"/>
          <p:cNvSpPr/>
          <p:nvPr/>
        </p:nvSpPr>
        <p:spPr>
          <a:xfrm>
            <a:off x="304920" y="0"/>
            <a:ext cx="8686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Внутреннее строение кишечнополост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10-16T08:11:40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